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F86-A652-4FF1-8104-7F85D54A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0A8-7793-4BB1-9051-B4280C16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039800-EC6E-4D8D-A3E3-A4A7FEAB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040795-4B32-46DB-BF97-B72C7CFA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40B958-9214-4716-83F8-F93DFF63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E9708D-EC70-48BC-B624-401FBFCA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781AEC-FB17-494F-9673-A2B657A8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CC5A13-D4AA-4562-9567-9188BBC5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DFBAEC-29B6-4938-BB7E-CE33FF50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5C7ADF-615F-48B9-946D-072EF88A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E65C03-5878-4BD9-A38C-AD67F519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67E-F761-493F-8FA4-8B477895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F9C-4C85-4054-A233-58792A4D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394A-9EB6-4082-8C48-2FBFF61A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FDCF-A660-44CE-BEBB-0C6F5135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F239-8567-458D-9420-D134F346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A73A-0453-4F6E-A282-C8E3562A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A8A2-1834-472B-B41B-68D8843F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479D-8315-48CB-9011-92E438FA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B452-24D8-499C-8169-3E4BEB35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94E-9BC2-4C13-BA45-03D4496F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98DC-048F-465C-BDA0-C8D0C144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9E42-095B-4F70-9559-9D6953BA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6D89-19C4-4760-A861-1F781B21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2AC7-E1CF-4320-917E-EAE417F8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E8B0-A1CE-4610-8A6A-F6877AED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0F82-47F2-463A-BB0E-9665F763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331FE-8165-4C00-B10A-5C6064E4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B3ED-F65A-47C4-8D06-016269B7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7BE3-00B4-4E1D-9303-5322C514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826E1-93DB-47B1-B741-4B891212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185-ED5F-40B1-803F-F5C15D79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9D50-823A-4211-8AE0-82BC0ED5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F6BC-482A-4691-96AC-50C25AF9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7A92-A3B9-4A49-B8E3-8E2C5F63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0409-380E-4D7B-9FAB-3C87D33C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09E0-B1F4-4521-9952-BF621074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8B473-5F3C-4409-8A15-6E01087C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43E8-B9D6-43A7-B7FE-6A9A4409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1477C-07C7-42F3-A4EC-A7CE55818E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EBF94-116B-4728-82A2-364122A976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1E217-B25B-4E3C-AAC1-60D1FFD87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B5C-31C1-417D-B32B-5DEC72BD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9B8D9-9967-4579-AC65-4372C3CF29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C2F8D-6E4A-46C5-9196-2DFB03AAF8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1D934-28FE-4AF3-9189-26D1F40F0B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184526-BA15-4131-9139-A7366898A5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6F0F9-CEB4-4031-8857-80F5EAF84A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8329FC-BBDB-457C-9225-66A118AAA0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B6A6E0-32EF-44BB-A6C8-D23F9F69BA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C6B14-5377-453E-87E9-7B05509026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A32AA-9851-4196-8ED5-99B3413F01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18617-5535-49F8-AC5A-DEF4A628E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EFC-251B-420E-BBB5-CFED9C5F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AF35A-95C9-4724-8C84-F22C8CDBE18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30B2-5D42-4BC4-8CB5-5CA5F8533B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58DB2-A720-43B2-8564-43AFDCD868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3F10-CC13-4464-80CC-DA3C6F5DEC5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425C-488E-4A6A-A623-906F253644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9113-8090-4E53-95F3-22CFAB9C5F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6CC7-F20E-44FE-B116-1430E5B7F60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E5788-73C3-4628-BF7C-ADB89472396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AB21-DDE1-4B67-B610-5985787A969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01D45-373E-4601-9D84-D93C3284B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CC1-C7E3-40C0-B494-6438FCCA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AB654-D125-4774-9FF9-A48E6D6955B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F38738-4D55-4223-AD7F-C939B848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E00F7D-E4DA-4443-BCBD-DA3419A7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F704DE-1C06-45CC-8F69-966243CD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D83FD7-2CCC-42AA-8C30-7E544F11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28A2E2-EDEC-4735-8191-5CA2A82D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D61D08-C2D6-48B4-AD37-191D10A7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B0FCCC-EAA9-4695-BDCF-FB833B5A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E93372-9127-47A5-A1FF-71D3B5D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AF5A64-D56C-444B-BDAC-67B1B098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48A-E9D5-4C13-8D72-ECF1700D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384B91-A133-49AA-8BC6-887D6240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68039D-6BBB-481C-B01E-96EE8AA2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5AA75D-715C-4253-B2EE-7DCC1FC2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8980E-8DF0-435E-815F-A04132C8E5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60D16-0ADB-4634-9D8C-6E219997557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84AF0-F74E-41F9-A981-A626AF8E9BA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8028B-0043-4562-8F70-BE06C3DE54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06D0E-7A4D-480B-A4EC-F6D5B2F39FC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DE959-1EFB-4539-80E6-422A600E14F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2DAE3-9136-4776-84B4-BA403171C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F98-3D2B-42F0-B304-B841F2BE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2A04E-6879-4C97-8CF7-2A37405F327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B1C67-B5F3-4DAB-986F-27270835CD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E250B-AC50-41AF-B469-F02B577997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9870-D25A-4758-BA5F-3F7EEB11427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9C416-D3D9-4A52-81D0-F88A84110B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30D74-9F74-406F-A287-0E6C3226A02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49FDE-6334-48FE-ABCB-0B47AA4485F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01300-9BAC-4162-B8E3-AAD24851A9D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1BFD68-6B78-4C17-8C45-CB239B763EC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DAFF3-4199-4F73-A72D-1677DD689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44C-BC98-4036-8EA5-F37F6710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AFF24-BA79-4873-B062-ECD675C26AE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710A5-B827-41B7-AEF2-DF1EFAD8E7A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83EBC-1BE9-49BE-AEEB-1EA21BD06F1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846E3-2B3D-458A-919D-0322772F1C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A9A0A-5ABF-44C3-A550-AE0B955F800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8EACC-A355-451A-835E-F0B26A79F2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9820A-DEB3-4112-81A1-0B30B6C0047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B0547-E85B-4BE8-8553-F90840E6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6D0033-39F3-452E-98A3-B62B9C83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8DEDF5-A2C4-4DAC-B926-9505D96A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FA2F-DD0D-46A2-B319-C9AB64E38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1434-E952-49B6-8FAD-37392384F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8DD8-D7D0-4354-B7CD-27FBC9A9C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5C25087-75F2-477F-80AF-9A1D67242E2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39B68DF-2F3D-479F-A835-847F3D1B55C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dt" idx="1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FAE8-CD37-4514-90C4-5A1770BBC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ftr" idx="17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DDD3695-1A5E-41F2-8F8D-739B73F2E55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427325F-AAAF-4045-829B-38CF3D59E00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91A1A60-02C9-42D5-A1CE-0412ACAC831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CC77-7812-4A6C-9DD3-A32A282272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w_4BTl4U_xlivM&amp;tbnid=mFmrQ4FAGOyrtM:&amp;ved=0CAUQjRw&amp;url=http%3A%2F%2Fwww.floridadiscountcoupons.com%2Fdiscount-ritas.htm&amp;ei=q1ifUYH2PMPz0gH2t4HwDg&amp;bvm=bv.47008514,d.dmQ&amp;psig=AFQjCNF5KXv1vOE-sI7XIxMFGX6ZRAAuRg&amp;ust=136948381304048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3gI9ms8Fdc" TargetMode="External"/><Relationship Id="rId2" Type="http://schemas.openxmlformats.org/officeDocument/2006/relationships/hyperlink" Target="http://youtu.be/frXlYeflkt4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C26-537C-4B8B-BE40-B554176E1F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Promotion Unit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83808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orts &amp; Entertainment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F553-3C7C-4F45-8C4E-79E7C5E1F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2 ~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bl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unpa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dia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positive or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d on product, service or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Outs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paper Articles, TV News Stor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With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Releases, Speeches, Community Involvement through service &amp; do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1404-0FFC-484A-AEC9-0364AD2A3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1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les pro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incentives offered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mited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encourage consumers to buy a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ime Membershi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Hour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a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p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ms with company’s name printed on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80880" y="30492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3 ~ Sales Pro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6" descr="http://www.floridadiscountcoupons.com/images/ritas_bogo_coup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114800"/>
            <a:ext cx="34290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B81C-0173-418F-B653-F7C59C21D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onal s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-person, face-to-face communication between a seller and a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dor to business bu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rep to store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l Clerk to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1"/>
          <a:stretch/>
        </p:blipFill>
        <p:spPr>
          <a:xfrm>
            <a:off x="6553080" y="4637160"/>
            <a:ext cx="2590920" cy="22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68D9-1702-418B-9572-F43B2F5E4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attention to questions/hes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able Salesper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product/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comparisons to simi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personal exper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questions and close the 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6840" y="2819520"/>
            <a:ext cx="838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four element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S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228600"/>
            <a:ext cx="785664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F0C8-1549-4854-B0C7-D8CE5C630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2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Advertising and Placement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scribe the steps involved in developing effective adverti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use of product pla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E0AA-CDB2-4664-B15F-A98317497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Opening Act ~ Page 26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how much it would cost to watch 10 episodes of your top 6 shows at a cost of $5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alternative ways production of TV programming could be fun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ys would be most appealing to TV vie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C4FD-C0A1-4CC1-B495-65ED7F008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umers about new products and services and helps consumers make comparisons among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  <p:pic>
        <p:nvPicPr>
          <p:cNvPr id="459" name="Rectangle 5" descr=""/>
          <p:cNvPicPr/>
          <p:nvPr/>
        </p:nvPicPr>
        <p:blipFill>
          <a:blip r:embed="rId2"/>
          <a:stretch/>
        </p:blipFill>
        <p:spPr>
          <a:xfrm>
            <a:off x="334800" y="4479840"/>
            <a:ext cx="6731280" cy="209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3A9E-F058-46ED-9707-1A6A271BF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Step by Step </a:t>
            </a:r>
            <a:r>
              <a:rPr b="1" lang="en-US" sz="1900" spc="-1" strike="noStrike">
                <a:solidFill>
                  <a:srgbClr val="99ff66"/>
                </a:solidFill>
                <a:latin typeface="Arial Black"/>
              </a:rPr>
              <a:t>(described more in next slides)</a:t>
            </a:r>
            <a:endParaRPr b="1" lang="en-US" sz="1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 advertising requi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 measurable advertising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the advertising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n advertising the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the advertising me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 me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 advertising sched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he effectiveness of the adverti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82FC-DECE-44C8-B971-D12D76868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 ~ The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.M.A.R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cif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ur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tain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list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we want to accomplish???   With Detail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2 ~ The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inal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 the advertising budget by estimating the point at which an additional dollar spent on advertising equals additional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802A-F66E-429A-AAFA-B31C1A4507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orts &amp; Entertainment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4300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1 Promoting Sports &amp; Entertai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2 Advertising &amp; Plac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3 Publicity &amp; Sales Promo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895480" y="609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321-973C-4DF7-B50E-4B1DDA30B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 a percentage of expected sales revenues to the advertising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sum per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dvertising budget based on the expected number of units to be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tive p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maintain the current share of 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of 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a similar dollar amount or frequency of advertising as that of compet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 ~ The Budge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2BA2-3C6B-49E5-AE3B-CC376D5DE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3055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 ~ The T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gl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e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logan that conveys the main message of the a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#4 ~ The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newspaper, magazines, bags, billboard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cast/cabl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radio, TV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home (billboards, stadium signs, rad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home (TV, magaz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DAAF-89EB-41A5-A0CB-CFD311B3A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 Mix selected is primarily based 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dvertising budget and target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ing the media that will bring the most effective advertising message to the targeted consu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eople in the target market expected to receive the message through the chosen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6858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 ~ The Medi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5F34-E2BD-461D-A079-93C310F59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ds to be spoken or printed in the advertis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work, Photos, Video added to enhance viewers’ interest and grab their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r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dvertising loses its effectiveness due to overexposure or poor messag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 ~ Th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F6D3-0462-4897-8AFA-57F25B85F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times the targeted customer is exposed to the medi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ying / relying on a single med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nce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irm buys the maximum reach and frequency in one medium and purchases additional space in or time on other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6 ~ Th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90BE-01BF-419B-B52C-FF4737AEA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= 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d doesn’t meet our goal, it’s cost &amp; efforts were was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shape and improve future advertising strateg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pon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customers who connect with and act in relation to the 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ed, complied, examine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7~ The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5DAC-58D4-417A-84A9-5FC2FE706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t’s Showti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Fall TV shows are “pitched” to ad firms before airing. (Spring meeting/presen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 Firms buy time slots based on compatibility  of potential viewing audienc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im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largest viewing audiences are watching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st expen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ime to advert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d based on expected audience ra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445B-0F65-4ABE-8E53-98AEA8B40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advertising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gage view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e them to take specific 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communications can be used to create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active conn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potential custome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4124-83AA-46AA-9D61-66121CA2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tiac – contest to photograph new G6 with phones to enter for a chance to win $1 Milli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people to look for G6 on the street, visit the dealership, attend the car show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publicity &amp;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edias ran the story/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Messaging &amp; Twitter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s watching LIVE TV rather than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3800-870D-46C9-88CC-AB3C10A94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4920" y="289512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measurable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effectiveness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2"/>
          <p:cNvSpPr/>
          <p:nvPr/>
        </p:nvSpPr>
        <p:spPr>
          <a:xfrm>
            <a:off x="2514600" y="685800"/>
            <a:ext cx="6629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steps involved in developing effective adverti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7C80-CC45-4081-9C96-850B71D22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1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romoting Sports and Entertainment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2819160"/>
            <a:ext cx="8007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goal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fine four element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E1A4-21FB-4656-8556-C3F0034CF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DUCT PLAC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placement is a fast growing form of sales promotion used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ms (Mov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 sh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th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placement can be used to offset the need for traditional advertis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289548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A7DC-138A-4326-9ACA-0DD51614B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Brainstor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9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x Network ~ Show “24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Free Episode included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3-minute ads by Ford Motor Compan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t beginning and end of show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Character, Jack Bauer, drives a Ford Expedition and other Fords are seen throughout the sh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other products have you se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ectly placed in Movies, TV or Thea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40FD-BD6A-416F-BF21-5E5DC240B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Who Pay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common ways that product placement deals might be constructed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rporation will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y a f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film’s producers for prominent product plac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very expensive product is needed, it may b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vided for 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film in exchange for the prominent display of the brand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promotes movie in product advertising in exchange for product placement.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91CE-C2FC-46D9-9BB1-DA9A1CC62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ree ways product placement deals are constru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ious Sl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EDBE-1953-4049-B58D-7E3F73769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3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ublicity &amp; Sales Promotion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800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ublicity and explain its role in creating a positive public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various types of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AF8E-FEC5-4FF4-BA33-96BC58227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publicity is fre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ssage is controll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s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 that are presenting the messag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motional too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E409-5EE5-431A-AB55-ED4C9EAF7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oodwi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’ positive feelings about the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ity Events, Marathons (Walks, 5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nts - Pledg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Donations – for public acknowledg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076F-37DF-4CD7-A5E3-B9B3CCE56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Damage Contr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rson who is responsible for maintaining relations with the public and news me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mag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ttempt to refute, justify, or downplay nega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s to focus attention on more posi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F2FA-A22C-47DF-AF3F-F3C889B6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rass-Roots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ss-roots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n unknown person or event is propelled into the spotlight by fa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al campa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motion where a few online mentions turn into a real buzz about a mo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s the movie into a mega h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trotur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fake grass-roots effort (forced, f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0D1E-DCF7-4D2D-B0AC-06A3E2A4E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mage is Every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relations (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 of promotion that tries to create a favorable public opinion for an individual or organiz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th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relations focus on the future with the intent of creating a positive image of the busi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kesperson: must know the desired image and represent the company message, profession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6F25-01D0-4F12-BB7B-03419A0D9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URPOSE OF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making customers aware of a product, service, or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imary Goal =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INCREASE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ning new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ing customers to be loy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705720" y="22860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10A3-6291-4FAB-A412-56C9B202D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letes &amp; Their Public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 athletes feel the pressure of being public role models while meeting athletic performance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 par performances = disappointing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can lead to immature, bad decis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y do to keep a positive public image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ty involvement, Charities, et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positive-caring, giving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Coverage  leads people to believe they are overpaid for their talents.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Negative – greedy, thoughtl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4BB9-8CCB-40FA-8CE8-CD146E4E1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6" descr="http://t1.gstatic.com/images?q=tbn:ANd9GcSvG8AbujcaAkqrUajl3WExhGj6f8-Re228i9vSLsmj0BJmQty2"/>
          <p:cNvPicPr/>
          <p:nvPr/>
        </p:nvPicPr>
        <p:blipFill>
          <a:blip r:embed="rId1"/>
          <a:stretch/>
        </p:blipFill>
        <p:spPr>
          <a:xfrm>
            <a:off x="4952880" y="457200"/>
            <a:ext cx="3895920" cy="3895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http://missourisportsmag.com/wp-content/uploads/2011/12/big_brothers_big_sisters_logo.jpg"/>
          <p:cNvPicPr/>
          <p:nvPr/>
        </p:nvPicPr>
        <p:blipFill>
          <a:blip r:embed="rId2"/>
          <a:stretch/>
        </p:blipFill>
        <p:spPr>
          <a:xfrm>
            <a:off x="228600" y="4191120"/>
            <a:ext cx="4495680" cy="2286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http://ww1.prweb.com/prfiles/2008/12/05/281058/MarchOfDimesLogo.gif"/>
          <p:cNvPicPr/>
          <p:nvPr/>
        </p:nvPicPr>
        <p:blipFill>
          <a:blip r:embed="rId3"/>
          <a:stretch/>
        </p:blipFill>
        <p:spPr>
          <a:xfrm>
            <a:off x="4952880" y="4572000"/>
            <a:ext cx="3990960" cy="1905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http://www.infobarrel.com/media/image/9471.jpg"/>
          <p:cNvPicPr/>
          <p:nvPr/>
        </p:nvPicPr>
        <p:blipFill>
          <a:blip r:embed="rId4"/>
          <a:stretch/>
        </p:blipFill>
        <p:spPr>
          <a:xfrm>
            <a:off x="228600" y="457200"/>
            <a:ext cx="4495680" cy="355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AD7E-E71E-4E64-BEC7-E4BB7C00A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Day Imag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need to maintain a positive re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lent service, cleanliness, saf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and sports fans need to have a positive image to encourag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si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ttend gam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ally helps area and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 reputation: keeps people aw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5746-E30D-4E18-B6B9-F063F2830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publicity different fro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type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 is free exposure but not really controlled by the business or person receivin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o it can be neg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6B2E-5111-4553-AEAE-A7C854996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 promotions are marketing efforts that o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an additional incentive 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mited time motivator to make a purc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positive influen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reluctant potent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into buy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C116-502B-4014-9DC4-7A719846D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Arial Black"/>
              </a:rPr>
              <a:t>Consumer Sales Promo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sales promo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at the final consumer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6D5F-8E83-47CB-B4C2-CE97F618A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Trad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d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sales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ed at members of the distribution chann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short-term discounts to distributors and retailers for selling or participating in the promotion of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con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l the most, get a r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-of-purchase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materials provided to help sell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FF1A-7B30-4996-89DF-148109B0B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Employe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sh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tra commission paid to sales persons who sell or push particu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an appliance manufacturer offers a bonus for selling a washer or dryer from a line that has been discontinu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7" descr="C:\Users\jsundlin\AppData\Local\Microsoft\Windows\Temporary Internet Files\Content.IE5\QHETRDYM\MC900440391[1].png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5D53-194F-4259-BF23-80B0CEE6F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consumer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AB3E-202E-44A6-93FE-106B343E6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Promotional Go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goal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customers’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ing customer l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a fan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ng potential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coming the hesitation of first-time bu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C:\Users\jsundlin\AppData\Local\Microsoft\Windows\Temporary Internet Files\Content.IE5\N2PGMTO6\MC900199897[1].wmf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67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pricing / Special pri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 1 Adult ticket, get child ticket ½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attendance, builds fan b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ime suppor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d tickets, discount p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s loyalty with current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83FC-1FAB-4C87-8D0B-575A405B3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L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elements of promotion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(next 4 slides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30492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16BF-E223-4D10-B3F4-31D063597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 of communication delivered by a product maker or seller to consu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Adverti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people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ly explain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 customers of WHERE they can get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 can: take many forms, appear in almost any media and reach millions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5303880" y="228600"/>
            <a:ext cx="384012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0BEE-DC3C-49F4-95B5-EA3B8B276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duct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duct integrated into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of a television show or a mov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cre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n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uman Show – Commercials during show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ie Trailer -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c3gI9ms8Fd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ke Commercials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youtu.be/frXlYeflkt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(9:58-12: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6" descr="http://emerging-advertising-media.wikispaces.com/file/view/Movie-product-placement.jpg/101108179/Movie-product-placement.jpg"/>
          <p:cNvPicPr/>
          <p:nvPr/>
        </p:nvPicPr>
        <p:blipFill>
          <a:blip r:embed="rId3"/>
          <a:stretch/>
        </p:blipFill>
        <p:spPr>
          <a:xfrm>
            <a:off x="6705720" y="304920"/>
            <a:ext cx="2171520" cy="249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sundlin</cp:lastModifiedBy>
  <dcterms:modified xsi:type="dcterms:W3CDTF">2013-05-24T15:14:05Z</dcterms:modified>
  <cp:revision>730</cp:revision>
  <dc:subject/>
  <dc:title>Chapter 11</dc:title>
</cp:coreProperties>
</file>